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FCAF-EFB9-4A56-968D-9E5256A4C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3E8B-FA6A-4C8B-B614-78C18629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8EDD-B7C7-469C-ACE5-667CA1C84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1A73-EE85-4DA7-9061-195900959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2B10-B77E-4F42-AC44-4211778B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14FC-201A-4367-AA70-CEDA9160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3865-B28E-4CEE-BFED-47358948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0318-92B3-4718-9261-D8E0B5FE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C599-0B00-48BF-9DA0-81DC37BE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3CB6-0BE3-49DD-A717-1E0CF79F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14E4-BFCC-4860-A985-E12E0FB3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1CBE-FEE2-4DCB-8677-A12D59E9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F18E-0A93-477D-9107-E5B9107E3D54}" type="slidenum">
              <a:rPr b="0" lang="hu-HU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Az RGB színkeverési módszer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lapszíne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3863880"/>
            <a:ext cx="2743200" cy="22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99"/>
                </a:solidFill>
                <a:latin typeface="Arial"/>
              </a:rPr>
              <a:t>kék (Blue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00400" y="3863880"/>
            <a:ext cx="2743200" cy="22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99"/>
                </a:solidFill>
                <a:latin typeface="Arial"/>
              </a:rPr>
              <a:t>zöld (Green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863880"/>
            <a:ext cx="2743200" cy="22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99"/>
                </a:solidFill>
                <a:latin typeface="Arial"/>
              </a:rPr>
              <a:t>vörös (Red)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1600200"/>
            <a:ext cx="2743200" cy="22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1600200"/>
            <a:ext cx="2743200" cy="22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2743200" cy="22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00200"/>
            <a:ext cx="2743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6126120"/>
            <a:ext cx="2743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600200"/>
            <a:ext cx="0" cy="2263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686800" y="1600200"/>
            <a:ext cx="0" cy="2263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1600200"/>
            <a:ext cx="2743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3863880"/>
            <a:ext cx="0" cy="2262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1600200"/>
            <a:ext cx="2743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686800" y="3863880"/>
            <a:ext cx="0" cy="2262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6126120"/>
            <a:ext cx="2743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43600" y="6126120"/>
            <a:ext cx="2743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6920" y="1700280"/>
            <a:ext cx="2016360" cy="20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4000" y="1700280"/>
            <a:ext cx="2016000" cy="2016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00720" y="1700280"/>
            <a:ext cx="2016360" cy="2016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zínkeverés az alapszínekbő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8229600" cy="46576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Szín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örös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Zöld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Kék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ehér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255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255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255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Sárga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255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255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Lila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255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255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Cián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255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255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örös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255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Zöld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255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Kék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255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ekete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dditív színkeveré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025720" y="1600200"/>
          <a:ext cx="50911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5720" y="1600200"/>
                    <a:ext cx="50911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9T15:11:28Z</dcterms:created>
  <dc:creator>OKÉV</dc:creator>
  <dc:description/>
  <dc:language>en-US</dc:language>
  <cp:lastModifiedBy>OKÉV</cp:lastModifiedBy>
  <dcterms:modified xsi:type="dcterms:W3CDTF">2004-12-13T13:00:25Z</dcterms:modified>
  <cp:revision>9</cp:revision>
  <dc:subject/>
  <dc:title>RGB színkeverés</dc:title>
</cp:coreProperties>
</file>